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6840" y="749160"/>
            <a:ext cx="7150320" cy="113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6840" y="749160"/>
            <a:ext cx="7150320" cy="113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6840" y="749160"/>
            <a:ext cx="7150320" cy="113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6840" y="749160"/>
            <a:ext cx="7150320" cy="113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6840" y="749160"/>
            <a:ext cx="7150320" cy="113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6840" y="749160"/>
            <a:ext cx="7150320" cy="113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6840" y="749160"/>
            <a:ext cx="7150320" cy="113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6840" y="749160"/>
            <a:ext cx="7150320" cy="52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6840" y="749160"/>
            <a:ext cx="7150320" cy="113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6840" y="749160"/>
            <a:ext cx="7150320" cy="113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6840" y="749160"/>
            <a:ext cx="7150320" cy="113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e47"/>
            </a:gs>
            <a:gs pos="100000">
              <a:srgbClr val="00363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49440" y="568440"/>
            <a:ext cx="7845120" cy="5740200"/>
          </a:xfrm>
          <a:prstGeom prst="rect">
            <a:avLst/>
          </a:prstGeom>
          <a:gradFill rotWithShape="0">
            <a:gsLst>
              <a:gs pos="0">
                <a:srgbClr val="001715"/>
              </a:gs>
              <a:gs pos="100000">
                <a:srgbClr val="004e47"/>
              </a:gs>
            </a:gsLst>
            <a:lin ang="5400000"/>
          </a:gradFill>
          <a:ln w="12600">
            <a:solidFill>
              <a:srgbClr val="f57b49"/>
            </a:solidFill>
            <a:miter/>
          </a:ln>
          <a:effectLst>
            <a:outerShdw dist="125751" dir="2700000" blurRad="0" rotWithShape="0">
              <a:srgbClr val="372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6840" y="749160"/>
            <a:ext cx="7150320" cy="1130400"/>
          </a:xfrm>
          <a:prstGeom prst="rect">
            <a:avLst/>
          </a:prstGeom>
          <a:gradFill rotWithShape="0">
            <a:gsLst>
              <a:gs pos="0">
                <a:srgbClr val="004e47"/>
              </a:gs>
              <a:gs pos="100000">
                <a:srgbClr val="001715"/>
              </a:gs>
            </a:gsLst>
            <a:lin ang="2700000"/>
          </a:gradFill>
          <a:ln w="12600">
            <a:solidFill>
              <a:srgbClr val="f57b49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9b03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1349"/>
              </a:spcBef>
              <a:buClr>
                <a:srgbClr val="fe9b03"/>
              </a:buClr>
              <a:buSzPct val="150000"/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1349"/>
              </a:spcBef>
              <a:buClr>
                <a:srgbClr val="fe9b03"/>
              </a:buClr>
              <a:buSzPct val="150000"/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1349"/>
              </a:spcBef>
              <a:buClr>
                <a:srgbClr val="fe9b03"/>
              </a:buClr>
              <a:buSzPct val="150000"/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1373040" indent="-152280">
              <a:lnSpc>
                <a:spcPct val="90000"/>
              </a:lnSpc>
              <a:spcBef>
                <a:spcPts val="1349"/>
              </a:spcBef>
              <a:buClr>
                <a:srgbClr val="fe9b03"/>
              </a:buClr>
              <a:buSzPct val="150000"/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779840" indent="-152280">
              <a:lnSpc>
                <a:spcPct val="90000"/>
              </a:lnSpc>
              <a:spcBef>
                <a:spcPts val="1349"/>
              </a:spcBef>
              <a:buClr>
                <a:srgbClr val="fe9b03"/>
              </a:buClr>
              <a:buSzPct val="150000"/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1779840" indent="-1522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150000"/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1779840" indent="-1522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SzPct val="150000"/>
              <a:buFont typeface="Arial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50880" y="149400"/>
            <a:ext cx="3270600" cy="363240"/>
          </a:xfrm>
          <a:prstGeom prst="rect">
            <a:avLst/>
          </a:prstGeom>
          <a:gradFill rotWithShape="0">
            <a:gsLst>
              <a:gs pos="0">
                <a:srgbClr val="004e47"/>
              </a:gs>
              <a:gs pos="50000">
                <a:srgbClr val="001715"/>
              </a:gs>
              <a:gs pos="100000">
                <a:srgbClr val="004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udiovisual Communic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6840" y="749160"/>
            <a:ext cx="7150320" cy="1130400"/>
          </a:xfrm>
          <a:prstGeom prst="rect">
            <a:avLst/>
          </a:prstGeom>
          <a:gradFill rotWithShape="0">
            <a:gsLst>
              <a:gs pos="0">
                <a:srgbClr val="004e47"/>
              </a:gs>
              <a:gs pos="100000">
                <a:srgbClr val="001715"/>
              </a:gs>
            </a:gsLst>
            <a:lin ang="2700000"/>
          </a:gradFill>
          <a:ln w="12600">
            <a:solidFill>
              <a:srgbClr val="f57b49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9b03"/>
                </a:solidFill>
                <a:latin typeface="Times New Roman"/>
              </a:rPr>
              <a:t>Dog Story</a:t>
            </a:r>
            <a:endParaRPr b="1" lang="en-US" sz="48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2381040"/>
            <a:ext cx="6438960" cy="321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n example of the difficulties encountered in verbal communication when precise, unambiguous language is not or cannot be use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4e47"/>
            </a:gs>
            <a:gs pos="100000">
              <a:srgbClr val="002f2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39560" y="4356000"/>
            <a:ext cx="432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It is brown and white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rcRect l="0" t="0" r="0" b="10193"/>
          <a:stretch/>
        </p:blipFill>
        <p:spPr>
          <a:xfrm>
            <a:off x="463680" y="660240"/>
            <a:ext cx="369540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4e47"/>
            </a:gs>
            <a:gs pos="100000">
              <a:srgbClr val="002f2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439560" y="4356000"/>
            <a:ext cx="432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It is brown and white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786200" y="4329000"/>
            <a:ext cx="4059360" cy="20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Why didn’t you say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you had a full-grown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brown and white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St. Bernard as a p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in the first place?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rcRect l="0" t="0" r="0" b="10193"/>
          <a:stretch/>
        </p:blipFill>
        <p:spPr>
          <a:xfrm>
            <a:off x="463680" y="660240"/>
            <a:ext cx="3695400" cy="299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rcRect l="0" t="0" r="516" b="31102"/>
          <a:stretch/>
        </p:blipFill>
        <p:spPr>
          <a:xfrm>
            <a:off x="4946760" y="692280"/>
            <a:ext cx="369576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4e47"/>
            </a:gs>
            <a:gs pos="100000">
              <a:srgbClr val="002f2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439560" y="4356000"/>
            <a:ext cx="432144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Why doesn’t anybo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understand me?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rcRect l="0" t="0" r="47401" b="12699"/>
          <a:stretch/>
        </p:blipFill>
        <p:spPr>
          <a:xfrm>
            <a:off x="539640" y="679320"/>
            <a:ext cx="372744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63600" y="4127400"/>
            <a:ext cx="432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I have a pet at ho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rcRect l="0" t="0" r="0" b="10193"/>
          <a:stretch/>
        </p:blipFill>
        <p:spPr>
          <a:xfrm>
            <a:off x="463680" y="660240"/>
            <a:ext cx="369540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4e47"/>
            </a:gs>
            <a:gs pos="100000">
              <a:srgbClr val="002f2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363600" y="4127400"/>
            <a:ext cx="4321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I have a pet at ho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0" t="0" r="636" b="11103"/>
          <a:stretch/>
        </p:blipFill>
        <p:spPr>
          <a:xfrm>
            <a:off x="4889520" y="654120"/>
            <a:ext cx="3676680" cy="3009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"/>
          <p:cNvSpPr/>
          <p:nvPr/>
        </p:nvSpPr>
        <p:spPr>
          <a:xfrm>
            <a:off x="4635000" y="4138560"/>
            <a:ext cx="343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Oh, what kind of pe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2"/>
          <a:srcRect l="0" t="0" r="0" b="10193"/>
          <a:stretch/>
        </p:blipFill>
        <p:spPr>
          <a:xfrm>
            <a:off x="463680" y="660240"/>
            <a:ext cx="369540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4e47"/>
            </a:gs>
            <a:gs pos="100000">
              <a:srgbClr val="002f2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39560" y="4356000"/>
            <a:ext cx="432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It is a dog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rcRect l="0" t="0" r="0" b="10193"/>
          <a:stretch/>
        </p:blipFill>
        <p:spPr>
          <a:xfrm>
            <a:off x="463680" y="660240"/>
            <a:ext cx="369540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4e47"/>
            </a:gs>
            <a:gs pos="100000">
              <a:srgbClr val="002f2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39560" y="4356000"/>
            <a:ext cx="432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It is a dog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606920" y="4348080"/>
            <a:ext cx="3467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What kind of a dog?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rcRect l="0" t="0" r="0" b="10193"/>
          <a:stretch/>
        </p:blipFill>
        <p:spPr>
          <a:xfrm>
            <a:off x="463680" y="660240"/>
            <a:ext cx="3695400" cy="2997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rcRect l="0" t="0" r="1022" b="11834"/>
          <a:stretch/>
        </p:blipFill>
        <p:spPr>
          <a:xfrm>
            <a:off x="4896000" y="654120"/>
            <a:ext cx="3670200" cy="30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4e47"/>
            </a:gs>
            <a:gs pos="100000">
              <a:srgbClr val="002f2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39560" y="4356000"/>
            <a:ext cx="432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It is a St. Bernard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rcRect l="0" t="0" r="0" b="10193"/>
          <a:stretch/>
        </p:blipFill>
        <p:spPr>
          <a:xfrm>
            <a:off x="463680" y="660240"/>
            <a:ext cx="369540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4e47"/>
            </a:gs>
            <a:gs pos="100000">
              <a:srgbClr val="002f2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39560" y="4356000"/>
            <a:ext cx="432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It is a St. Bernard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4438800" y="4348080"/>
            <a:ext cx="378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Grown up or a puppy?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rcRect l="0" t="0" r="0" b="10193"/>
          <a:stretch/>
        </p:blipFill>
        <p:spPr>
          <a:xfrm>
            <a:off x="463680" y="660240"/>
            <a:ext cx="3695400" cy="2997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rcRect l="0" t="0" r="511" b="12436"/>
          <a:stretch/>
        </p:blipFill>
        <p:spPr>
          <a:xfrm>
            <a:off x="4915080" y="654120"/>
            <a:ext cx="3708360" cy="29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4e47"/>
            </a:gs>
            <a:gs pos="100000">
              <a:srgbClr val="002f2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439560" y="4356000"/>
            <a:ext cx="432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It is full grown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rcRect l="0" t="0" r="0" b="10193"/>
          <a:stretch/>
        </p:blipFill>
        <p:spPr>
          <a:xfrm>
            <a:off x="463680" y="660240"/>
            <a:ext cx="369540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4e47"/>
            </a:gs>
            <a:gs pos="100000">
              <a:srgbClr val="002f2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39560" y="4356000"/>
            <a:ext cx="4321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It is full grown.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838400" y="4329000"/>
            <a:ext cx="2882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“</a:t>
            </a:r>
            <a:r>
              <a:rPr b="1" lang="en-GB" sz="2400" spc="-1" strike="noStrike">
                <a:solidFill>
                  <a:srgbClr val="ffffff"/>
                </a:solidFill>
                <a:latin typeface="New York"/>
              </a:rPr>
              <a:t>What color is it?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0" t="0" r="0" b="10193"/>
          <a:stretch/>
        </p:blipFill>
        <p:spPr>
          <a:xfrm>
            <a:off x="463680" y="660240"/>
            <a:ext cx="3695400" cy="2997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rcRect l="2044" t="0" r="511" b="9912"/>
          <a:stretch/>
        </p:blipFill>
        <p:spPr>
          <a:xfrm>
            <a:off x="4915080" y="673200"/>
            <a:ext cx="3708360" cy="300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0T13:47:23Z</dcterms:created>
  <dc:creator>Jim Bradford</dc:creator>
  <dc:description/>
  <dc:language>en-US</dc:language>
  <cp:lastModifiedBy>Phil</cp:lastModifiedBy>
  <dcterms:modified xsi:type="dcterms:W3CDTF">2015-05-31T02:37:24Z</dcterms:modified>
  <cp:revision>10</cp:revision>
  <dc:subject/>
  <dc:title>Audiovisual Communication</dc:title>
</cp:coreProperties>
</file>